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436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5"/>
          </p:nvPr>
        </p:nvSpPr>
        <p:spPr>
          <a:xfrm>
            <a:off x="3955680" y="-1440"/>
            <a:ext cx="302436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6"/>
          </p:nvPr>
        </p:nvSpPr>
        <p:spPr>
          <a:xfrm>
            <a:off x="-36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7"/>
          </p:nvPr>
        </p:nvSpPr>
        <p:spPr>
          <a:xfrm>
            <a:off x="395568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2C08-0388-49E9-90DC-FACD378FBC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929880" y="4373640"/>
            <a:ext cx="5119560" cy="4146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02240" cy="345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468B-6462-4687-A614-61046CB84236}" type="slidenum">
              <a:rPr b="0" i="1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02240" cy="34509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9880" y="4373640"/>
            <a:ext cx="5119560" cy="4146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evitable (among human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cessary (especially for ch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ful (for growth and develop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452-B884-472D-B115-B4268771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F9B-713C-401A-8630-1FA09815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BBB-7F60-4072-BA90-7CA35265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A32-4399-49CC-914A-C9D5505D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E4268-D294-4621-A7F9-5FBB905071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D414C-0704-4BBB-A432-D505E090E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FCFEC-5689-48A3-AF22-29FA850D5E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F2ADB-AEB4-4D74-9A14-0054853183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3A512-D25B-41AF-90AB-DC0ABF7E36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523880" y="609480"/>
            <a:ext cx="69343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96B2E-5EF6-4AC2-819F-BE9C42BBD8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78EDB-6C4B-4B01-B4CA-CADD078B3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881-EDCC-4DB4-B0FF-C66B9E6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1F812-4A0E-41B8-8719-6A8945AA7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0BB05-4C59-44B1-973A-F1D904FB80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B4C90-DF78-4BFE-A2AF-290D46104F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CA168-0C9B-41BE-B643-C32CA30CAA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BC8D2-B8B7-4FD2-9560-E1F5BC6E6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2BE-6CBC-41DA-A6EB-E0206EF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4EF-EAEF-49EC-8703-46889C4B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5CE-B166-4703-93DE-D3C643EC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523880" y="609480"/>
            <a:ext cx="69343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9CC-C490-4630-AE7A-9F7F8AB9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52C-69F8-4A4A-B722-1A28C9F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43F-E9BE-4865-B744-5A490966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F3E-0EB0-4560-BB1D-48F11A57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Click to edit the outline text format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econd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Third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Fourth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Fifth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ixth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eventh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22EA-DD29-4DAF-9BAA-083ACCE9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685800" y="1523880"/>
            <a:ext cx="5791320" cy="74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1" name="Object 23"/>
          <p:cNvGraphicFramePr/>
          <p:nvPr/>
        </p:nvGraphicFramePr>
        <p:xfrm>
          <a:off x="685800" y="609480"/>
          <a:ext cx="6872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687240" cy="914400"/>
                  </a:xfrm>
                  <a:prstGeom prst="rect">
                    <a:avLst/>
                  </a:prstGeom>
                  <a:ln w="1908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380880" y="380880"/>
          <a:ext cx="9162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916200" cy="1219320"/>
                  </a:xfrm>
                  <a:prstGeom prst="rect">
                    <a:avLst/>
                  </a:prstGeom>
                  <a:ln w="255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" name="Group 3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2" name="Rectangle 4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5" name="Rectangle 7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8" name="Rectangle 10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0" name="Group 12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71" name="Rectangle 13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3" name="Rectangle 18"/>
          <p:cNvSpPr/>
          <p:nvPr/>
        </p:nvSpPr>
        <p:spPr>
          <a:xfrm>
            <a:off x="1676520" y="3352680"/>
            <a:ext cx="5684760" cy="74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74" name="Object 19"/>
          <p:cNvGraphicFramePr/>
          <p:nvPr/>
        </p:nvGraphicFramePr>
        <p:xfrm>
          <a:off x="7504200" y="4800600"/>
          <a:ext cx="126036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4200" y="4800600"/>
                    <a:ext cx="1260360" cy="1676520"/>
                  </a:xfrm>
                  <a:prstGeom prst="rect">
                    <a:avLst/>
                  </a:prstGeom>
                  <a:ln w="255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Click to edit the outline text format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econd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Third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Fourth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Fifth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ixth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eventh Outline Level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4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ADE3-D660-47EC-9DF2-1E9277A4322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0120" y="1904760"/>
            <a:ext cx="742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Conflict Management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7920" y="37335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ypes of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524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Bookman Old Style"/>
                        </a:rPr>
                        <a:t>Intrapersonal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381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Bookman Old Style"/>
                        </a:rPr>
                        <a:t>Interpersonal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381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Bookman Old Style"/>
                        </a:rPr>
                        <a:t>Intragroup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381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Bookman Old Style"/>
                        </a:rPr>
                        <a:t>Intergroup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381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ources of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Fear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Dishonesty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Boundaries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Negligenc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Need to be right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Miscommunication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Mishandling conflict in the past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Hidden agenda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Reveng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Fighting the “last war”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9717120" y="608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mall Group Work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Take 5 minutes to read the “case study” at your table and discuss the nature of the conflict presented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REPORT OUT:  What is the type and source of the conflict?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</p:txBody>
      </p:sp>
      <p:pic>
        <p:nvPicPr>
          <p:cNvPr id="151" name="Picture 5" descr="_x0010_hamslatemini.jpg                                               0003BBE2_x000b_Sparrowhawk                    BC591E22:"/>
          <p:cNvPicPr/>
          <p:nvPr/>
        </p:nvPicPr>
        <p:blipFill>
          <a:blip r:embed="rId1"/>
          <a:stretch/>
        </p:blipFill>
        <p:spPr>
          <a:xfrm>
            <a:off x="4981680" y="1752480"/>
            <a:ext cx="3141720" cy="4191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Bookman Old Style"/>
              </a:rPr>
              <a:t>The use of strategies and tactics to move parties toward resolution or at least containment of a dispute that avoids further escalation and relationship destruction.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-Aschenbrenner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</p:txBody>
      </p:sp>
      <p:pic>
        <p:nvPicPr>
          <p:cNvPr id="154" name="Picture 5" descr="_x0011_discuss_group.jpg                                              0003BBE2_x000b_Sparrowhawk                    BC591E22:"/>
          <p:cNvPicPr/>
          <p:nvPr/>
        </p:nvPicPr>
        <p:blipFill>
          <a:blip r:embed="rId1"/>
          <a:stretch/>
        </p:blipFill>
        <p:spPr>
          <a:xfrm>
            <a:off x="4648320" y="240048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 1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Identify critical information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ose problem is this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is the situation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ssues, history, players, stake holder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 2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What organizational factors are present?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olicy/procedure, culture, working conditi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hat personal factors do I need to acknowledge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ersonal issues, conflict resolution style, what pushes my but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 3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Personal inventory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hat role does my behavior play in the dynamic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hat situational elements am I willing/able to change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hat are my resource constraints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hat matters to me -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Bookman Old Style"/>
              </a:rPr>
              <a:t>winning?</a:t>
            </a:r>
            <a:endParaRPr b="0" lang="en-US" sz="2000" spc="-1" strike="noStrike">
              <a:solidFill>
                <a:srgbClr val="0066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Bookman Old Style"/>
              </a:rPr>
              <a:t>The relationship?,  </a:t>
            </a:r>
            <a:endParaRPr b="0" lang="en-US" sz="2000" spc="-1" strike="noStrike">
              <a:solidFill>
                <a:srgbClr val="0066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Bookman Old Style"/>
              </a:rPr>
              <a:t>specific outcome?</a:t>
            </a:r>
            <a:endParaRPr b="0" lang="en-US" sz="20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 4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Increase my effectivenes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Acknowledge my own feelings!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f not purely interpersonal –separate the problem and the peop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ocus on interests – not positi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enerate solution optio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sider measurable outcome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cognize successful conflict managemen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Tailor your conflict management strategies to match situations with peers, supervisors or those that report to you.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  <p:pic>
        <p:nvPicPr>
          <p:cNvPr id="165" name="Picture 5" descr="_x000c_bencasey.jpg                                                   0003BBE2_x000b_Sparrowhawk                    BC591E22:"/>
          <p:cNvPicPr/>
          <p:nvPr/>
        </p:nvPicPr>
        <p:blipFill>
          <a:blip r:embed="rId1"/>
          <a:stretch/>
        </p:blipFill>
        <p:spPr>
          <a:xfrm>
            <a:off x="4799160" y="1752480"/>
            <a:ext cx="3506760" cy="4191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:  Peers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hared interest/goal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Non competitive approache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olve this without involving other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et the ground rules early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Consider humor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Cultivate relationships at all times, not just during conflict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is…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The interaction of interdependent people who perceive incompatible goals and interference from each other in achieving those goals.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-Hoeker &amp; Wilmot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</p:txBody>
      </p:sp>
      <p:pic>
        <p:nvPicPr>
          <p:cNvPr id="126" name="Picture 5" descr="_x000c_conflict.jpg                                                   0003BBE2_x000b_Sparrowhawk                    BC591E22:"/>
          <p:cNvPicPr/>
          <p:nvPr/>
        </p:nvPicPr>
        <p:blipFill>
          <a:blip r:embed="rId1"/>
          <a:stretch/>
        </p:blipFill>
        <p:spPr>
          <a:xfrm>
            <a:off x="4683240" y="1752480"/>
            <a:ext cx="3738600" cy="4191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9705960" y="4822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 advTm="12000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:  Superiors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Present relevant data accurately/concisely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Be explicit about what you want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Be explicit about yourself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Link your goal to their values/goals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Acknowledge the constraints in </a:t>
            </a:r>
            <a:r>
              <a:rPr b="1" lang="en-US" sz="2800" spc="-1" strike="noStrike" u="sng">
                <a:solidFill>
                  <a:srgbClr val="006666"/>
                </a:solidFill>
                <a:uFillTx/>
                <a:latin typeface="Bookman Old Style"/>
              </a:rPr>
              <a:t>their</a:t>
            </a: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 positions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Understand organizational cultur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Don’t expect gratitude or approval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Don’t cause them to lose fac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nflict Management:  Subordinates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Match actions and words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Assume they know more about you than you think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Be explicit about expectations and consequences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Give and accept feedback in privat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Deal fairly and objectively with poor performanc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Listen, learn [boomerang questions]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Be a coach not a player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mall Group Work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Bookman Old Style"/>
              </a:rPr>
              <a:t>Back to your case.  In 15 minutes, discuss:</a:t>
            </a:r>
            <a:endParaRPr b="1" lang="en-US" sz="20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ose problem is this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at is the power dynamic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o are the stake holders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at organizational factors are present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Bookman Old Style"/>
              </a:rPr>
              <a:t>REPORT OUT:  Give us the bullets in 1 minute.</a:t>
            </a:r>
            <a:endParaRPr b="1" lang="en-US" sz="2000" spc="-1" strike="noStrike">
              <a:solidFill>
                <a:srgbClr val="006666"/>
              </a:solidFill>
              <a:latin typeface="Bookman Old Style"/>
            </a:endParaRPr>
          </a:p>
        </p:txBody>
      </p:sp>
      <p:pic>
        <p:nvPicPr>
          <p:cNvPr id="174" name="Picture 4" descr="_x0010_hamslatemini.jpg                                               0003BBE2_x000b_Sparrowhawk                    BC591E22:"/>
          <p:cNvPicPr/>
          <p:nvPr/>
        </p:nvPicPr>
        <p:blipFill>
          <a:blip r:embed="rId1"/>
          <a:stretch/>
        </p:blipFill>
        <p:spPr>
          <a:xfrm>
            <a:off x="4981680" y="1752480"/>
            <a:ext cx="3141720" cy="4191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tyles of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Successful leaders know their own preferred style of handling conflict, but vary their style to meet the needs of the situation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Bookman Old Style"/>
            </a:endParaRPr>
          </a:p>
        </p:txBody>
      </p:sp>
      <p:pic>
        <p:nvPicPr>
          <p:cNvPr id="177" name="Picture 5" descr="_x0014_lincoln-portrait.gif                                           00034CA8_x000b_Sparrowhawk                    BC591E22:"/>
          <p:cNvPicPr/>
          <p:nvPr/>
        </p:nvPicPr>
        <p:blipFill>
          <a:blip r:embed="rId1"/>
          <a:stretch/>
        </p:blipFill>
        <p:spPr>
          <a:xfrm>
            <a:off x="4813200" y="1752480"/>
            <a:ext cx="3478320" cy="4191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tyles of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0" y="2179800"/>
          <a:ext cx="8813880" cy="390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79800"/>
                    <a:ext cx="8813880" cy="39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Avoidance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You don’t have a dog in this fight”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Cool down needed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No chance for success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Turn the other cheek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Bookman Old Style"/>
              </a:rPr>
              <a:t>Disadvantage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issed opportunity to clarify issue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creases power differentia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oward/pushover label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verused in healthcar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mpetition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True zero sum game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Time constraint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Opponent's” only style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Bookman Old Style"/>
              </a:rPr>
              <a:t>Disadvantage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ts power wins pattern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creases power differentia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ot helpful in personal relationship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o ownership in the solution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Accomodation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Issue more important to the other party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Graceful exit strategy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Value the relationship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Competition getting no wher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Disadvantages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You are a fixer/enabl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Do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crease power differentia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mpromise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Issue and relationship important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Need temporary or expedient “fix”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Collaboration falters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Bookman Old Style"/>
              </a:rPr>
              <a:t>Disadvantage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ocus on position/solution not issue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Lose-lose rather than win-win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ay miss a systems solution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llaboration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Need to build support for implementation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Addressing complex problems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Change needed for the solution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Allows focus on goals, issues, values 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    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Bookman Old Style"/>
              </a:rPr>
              <a:t>not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 positions or demands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Bookman Old Style"/>
              </a:rPr>
              <a:t>Disadvantages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ime consuming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oth parties need to listen and lear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llingness to change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eds planning and team building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ake Home Message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Conflict is: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evitabl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cessar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ommunication Skills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LISTEN, LISTEN, LISTEN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Respect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Cultivate trust 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Stay clear, concise, positive 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Recognize body language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Use “I” statements  not “you” statements 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   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(avoid blame)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Articulate your needs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Acknowledge others’ needs 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LISTEN, LISTEN, LISTEN</a:t>
            </a:r>
            <a:endParaRPr b="1" lang="en-US" sz="24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mall Group Work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Bookman Old Style"/>
              </a:rPr>
              <a:t>Back to your case.  In 15 minutes, discuss:</a:t>
            </a:r>
            <a:endParaRPr b="1" lang="en-US" sz="20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scuss the pros and cons of each approach to your conflict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Bookman Old Style"/>
              </a:rPr>
              <a:t>REPORT OUT:  Give us the bullets in 1 minute.</a:t>
            </a:r>
            <a:endParaRPr b="1" lang="en-US" sz="2000" spc="-1" strike="noStrike">
              <a:solidFill>
                <a:srgbClr val="006666"/>
              </a:solidFill>
              <a:latin typeface="Bookman Old Style"/>
            </a:endParaRPr>
          </a:p>
        </p:txBody>
      </p:sp>
      <p:pic>
        <p:nvPicPr>
          <p:cNvPr id="195" name="Picture 4" descr="_x0010_hamslatemini.jpg                                               0003BBE2_x000b_Sparrowhawk                    BC591E22:"/>
          <p:cNvPicPr/>
          <p:nvPr/>
        </p:nvPicPr>
        <p:blipFill>
          <a:blip r:embed="rId1"/>
          <a:stretch/>
        </p:blipFill>
        <p:spPr>
          <a:xfrm>
            <a:off x="4981680" y="1752480"/>
            <a:ext cx="3141720" cy="4191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tyles of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To proactively manage conflict, choose the collaborative approach whenever possible.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3227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uccessful Conflict Managemen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Reconsider your definitions of conflict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Know your preferred styl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Vary your style based on situation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Tailor your approach based on involved parties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Proactively manage conflict – anticipate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Communication – LISTEN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oday’s Goals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efine Conflict and its properti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nderstand multiple approaches to conflict management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flect on your own approach to conflic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nderstand tools that may be used in conflict situatio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What is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Pair-Share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Define the characteristics of conflict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What is Conflict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00240" y="18288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Conflict is not…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Sign of a bad relationship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Negative experience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Mistake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Struggle between right and wrong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Conflict is…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Perceived difference 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eeds, values and goals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Part of a relationship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Consequence of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growth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 advTm="12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Examples of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Generational change: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ousestaff clash with primary care provider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Technology driven change: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pgrading to electronic medical record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Change in scope of practice: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hould we admit to the hospitalists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Something just isn’t fair: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hat about our salaries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man Old Style"/>
              </a:rPr>
              <a:t>Others</a:t>
            </a: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Advantages of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Diffuse more serious conflict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Stimulate search for new facts or solutions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Enhance relationships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Increase cohesivenes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Bookman Old Style"/>
              </a:rPr>
              <a:t>Conflict should be managed not eliminated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Disavantages of Conflic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Time consuming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Disrupts progress/ problem solving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Detracts from job at hand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Keeps people apart; if unresolved 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Poor quality, lowers productivity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Bookman Old Style"/>
              </a:rPr>
              <a:t>Reduces team effectiveness</a:t>
            </a:r>
            <a:endParaRPr b="1" lang="en-US" sz="3200" spc="-1" strike="noStrike">
              <a:solidFill>
                <a:srgbClr val="006666"/>
              </a:solidFill>
              <a:latin typeface="Bookman Old Style"/>
            </a:endParaRPr>
          </a:p>
        </p:txBody>
      </p:sp>
    </p:spTree>
  </p:cSld>
  <p:transition spd="med" advTm="12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17:03:11Z</dcterms:created>
  <dc:creator/>
  <dc:description/>
  <dc:language>en-US</dc:language>
  <cp:lastModifiedBy>Bright</cp:lastModifiedBy>
  <cp:lastPrinted>1999-04-22T20:48:17Z</cp:lastPrinted>
  <dcterms:modified xsi:type="dcterms:W3CDTF">2013-08-22T12:42:00Z</dcterms:modified>
  <cp:revision>134</cp:revision>
  <dc:subject/>
  <dc:title>No Slide Title</dc:title>
</cp:coreProperties>
</file>